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47D-82F9-47BA-981E-7BF98D68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ABC-1964-4334-8FAD-529A440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9D8-363F-45E5-9D58-DA4BE425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D13-861D-4A09-8FDA-4D87ABA6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2A4-86DC-42A8-9557-1D37176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E92-44D6-4905-A906-8B09EEFC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ED4-F729-46E8-9D37-45433191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F65-557D-41A9-B938-1EB4C443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AAC-DC46-40D1-BED7-8C333503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20E-C367-44B5-B8D4-63026C5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3D3-C748-45D9-955B-DCDD6A2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A8F-2BF4-411F-85CA-228E74F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1BF7-381F-49AC-89A1-AE104E13F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600200"/>
            <a:ext cx="627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hat 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isclass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ias 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71500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30556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4114800" cy="381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avid g kleinbaum</cp:lastModifiedBy>
  <dcterms:modified xsi:type="dcterms:W3CDTF">2003-11-09T00:48:16Z</dcterms:modified>
  <cp:revision>216</cp:revision>
  <dc:subject/>
  <dc:title>Slide 1</dc:title>
</cp:coreProperties>
</file>